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7772400" cy="100584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044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9572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07960" y="-360"/>
            <a:ext cx="319428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-360" y="9078480"/>
            <a:ext cx="319572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4107960" y="9078480"/>
            <a:ext cx="319428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fld id="{FB37AC4E-8C73-4C6A-8237-DAB640D797EA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803240" y="439560"/>
            <a:ext cx="3700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730440" y="4553640"/>
            <a:ext cx="58431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107960" y="9078480"/>
            <a:ext cx="319428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fld id="{3B0CF88A-EE36-4EE1-9B63-D54237C1D6E3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9078480"/>
            <a:ext cx="319572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-360"/>
            <a:ext cx="3195720" cy="507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260440" y="719280"/>
            <a:ext cx="2778120" cy="3595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4B0-3770-46D4-8D6E-84DBBD11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6345000"/>
            <a:ext cx="609624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690-8A9F-424E-AF02-A2331F4B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180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63450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1800" y="63450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EBE-24E5-463B-BD41-CA242B95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99440" y="32004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60440" y="32004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63450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99440" y="63450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60440" y="6345000"/>
            <a:ext cx="196272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BD2-FEC8-4CF3-9FBB-AE2EC63C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62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172-5302-4AB5-842F-F4C18923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B9C-53CB-4A35-A7C2-30DC05A8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297468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1800" y="3200400"/>
            <a:ext cx="297468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9E6-44DF-4685-8C74-A869EBA3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3F3-BCDF-426E-8F45-93F07F32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2640" y="4162680"/>
            <a:ext cx="1527120" cy="201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62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D83-5E5F-440E-B81B-49F8452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1800" y="3200400"/>
            <a:ext cx="297468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63450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93F-ED01-4A84-9D67-843A16D4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297468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180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1800" y="63450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F3F-1C83-49A8-A6C9-DD2E0CF5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1800" y="3200400"/>
            <a:ext cx="297468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6345000"/>
            <a:ext cx="6096240" cy="287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49E-FE62-4F20-A7A9-17AD0A44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66880" y="9143640"/>
            <a:ext cx="2438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56236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4EF0-6462-4EA9-8727-D64484052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122640" y="1363680"/>
            <a:ext cx="1527120" cy="5547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1162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1162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97040" indent="-189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18900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SzPct val="50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00320" indent="-189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50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00320" indent="-189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50000"/>
              <a:buFont typeface="Wingdings 2" charset="2"/>
              <a:buChar char="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22920" y="533520"/>
            <a:ext cx="1668600" cy="8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 Antiqua"/>
              </a:rPr>
              <a:t>Policy Governance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19320" y="544680"/>
            <a:ext cx="175248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oundary Management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09480" y="542880"/>
            <a:ext cx="609840" cy="58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MPsych@email.msn.com" TargetMode="External"/><Relationship Id="rId2" Type="http://schemas.openxmlformats.org/officeDocument/2006/relationships/hyperlink" Target="http://www.boundarymanagement.com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600" y="1875960"/>
            <a:ext cx="6664320" cy="356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136440" bIns="13644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Creating </a:t>
            </a:r>
            <a:br>
              <a:rPr sz="7200"/>
            </a:b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Accountability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02920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960" y="6477120"/>
            <a:ext cx="27406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ation Develop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nn A. Walker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ker Management Psychologis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0 Castle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Louis MO 63146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4-576-57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WMPsych@email.msn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BoundaryManageme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E81-623C-4223-8763-A6B3948482C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1395360"/>
            <a:ext cx="326376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ritical role in accounta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ften ignored until a major problem exist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st boards and managers will need to learn to monitor better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973-C488-418E-AFD9-34C5CEB118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30040" y="1363680"/>
            <a:ext cx="553068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itoring Repor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ate the Boundary or Limit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ate Compliance/Non-Complianc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of of Compliance/Non-Complianc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rrective Actions if Needed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9C0-98F4-42E5-8CFA-2EF0F05486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7960" y="1363320"/>
            <a:ext cx="6248160" cy="1415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reating Accountability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System Failu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ew organizational systems support accounta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any organizational systems reduce accounta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st popular management theories run counter to accounta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st attempts to increase accountability decrease both accountability and author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205-E1C7-4CFB-B96E-06D7F4C23E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6800" y="1363320"/>
            <a:ext cx="5719680" cy="1536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Accountabilit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 Importa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untability is directly related to one’s value and self-worth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untability assures an acceptable level of discipline for individuals and group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untability assures that true priorities are identified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0E9-31C2-4166-A02D-1375E657B1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5480" y="1363680"/>
            <a:ext cx="326520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ks or results which an individual is obliged to achie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ks rather than results carry the bulk of what people mean when they speak of responsib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k or results for which an individual is obliged to achieve and is answerable to someone else about their statu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e Difference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requirement to report or monitor that the tasks and results have been achiev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6AF-B933-4EBF-8CFD-67EB53FB9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4240" y="1363320"/>
            <a:ext cx="4570200" cy="1536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wo Misguide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ttemp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replaces the need to accomplish the task or result with a disciplinary action – accountability is usually reduced or elimin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umanistic Managemen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ds a mixed messages about being positive and holding people accountable – accountability is usually reduced in an attempt to coach, train, and sup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779-32B9-4E1C-8001-DC896857A4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8560" y="1363680"/>
            <a:ext cx="599904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tter Accountabilit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86080" y="40384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5791320"/>
            <a:ext cx="2133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ive Act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6480" y="4038480"/>
            <a:ext cx="160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3" idx="0"/>
          </p:cNvCxnSpPr>
          <p:nvPr/>
        </p:nvCxnSpPr>
        <p:spPr>
          <a:xfrm flipH="1" flipV="1" rot="5400000">
            <a:off x="2514240" y="2666160"/>
            <a:ext cx="1143720" cy="1600920"/>
          </a:xfrm>
          <a:prstGeom prst="curved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endCxn id="65" idx="0"/>
          </p:cNvCxnSpPr>
          <p:nvPr/>
        </p:nvCxnSpPr>
        <p:spPr>
          <a:xfrm>
            <a:off x="3885840" y="2895120"/>
            <a:ext cx="1600920" cy="11437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5" idx="2"/>
            <a:endCxn id="64" idx="3"/>
          </p:cNvCxnSpPr>
          <p:nvPr/>
        </p:nvCxnSpPr>
        <p:spPr>
          <a:xfrm rot="5400000">
            <a:off x="4489560" y="5088600"/>
            <a:ext cx="1459440" cy="534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1"/>
            <a:endCxn id="63" idx="2"/>
          </p:cNvCxnSpPr>
          <p:nvPr/>
        </p:nvCxnSpPr>
        <p:spPr>
          <a:xfrm rot="10800000">
            <a:off x="2285280" y="4872960"/>
            <a:ext cx="534240" cy="12117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80B-BA71-48F9-BE11-2F7B307BB6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395360"/>
            <a:ext cx="533376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The Yes Effec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2160" y="3124080"/>
            <a:ext cx="5786640" cy="3353040"/>
          </a:xfrm>
          <a:prstGeom prst="rect">
            <a:avLst/>
          </a:prstGeom>
          <a:solidFill>
            <a:srgbClr val="00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11800" y="4022640"/>
            <a:ext cx="174600" cy="168480"/>
          </a:xfrm>
          <a:prstGeom prst="ellipse">
            <a:avLst/>
          </a:prstGeom>
          <a:solidFill>
            <a:srgbClr val="ffffff"/>
          </a:solidFill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6560" y="251460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ssible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4876920"/>
            <a:ext cx="11430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06666"/>
              <a:gd name="adj5" fmla="val -156666"/>
              <a:gd name="adj6" fmla="val 165277"/>
            </a:avLst>
          </a:prstGeom>
          <a:solidFill>
            <a:srgbClr val="000099"/>
          </a:solidFill>
          <a:ln w="1908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86200"/>
            <a:ext cx="7617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73000" y="6781680"/>
            <a:ext cx="602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Yes Eff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a parent-to-child relation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qui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ssion and forg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74440" y="8839080"/>
            <a:ext cx="24235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ker Managemen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ychologists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B34-D4C1-482E-985C-5FF31F6A8F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90680" y="1363680"/>
            <a:ext cx="5005440" cy="86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undary The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3048120"/>
            <a:ext cx="5867280" cy="3436920"/>
          </a:xfrm>
          <a:prstGeom prst="rect">
            <a:avLst/>
          </a:prstGeom>
          <a:solidFill>
            <a:srgbClr val="0000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71880" y="3249720"/>
            <a:ext cx="4267080" cy="3033720"/>
          </a:xfrm>
          <a:prstGeom prst="ellipse">
            <a:avLst/>
          </a:prstGeom>
          <a:solidFill>
            <a:srgbClr val="ffffff"/>
          </a:solidFill>
          <a:ln w="66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5600" y="335124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7292880"/>
            <a:ext cx="2943000" cy="70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159" y="-35100"/>
                </a:moveTo>
                <a:lnTo>
                  <a:pt x="22159" y="16971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Boundary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74440" y="8839080"/>
            <a:ext cx="24235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ker Managemen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ychologists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BB0-6A6C-4C03-9FB6-02649F5BFD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2360" y="1363320"/>
            <a:ext cx="4759560" cy="1536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182520" rIns="182520" tIns="92160" bIns="92160" anchor="t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rnal/External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3200400"/>
            <a:ext cx="6096240" cy="6019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xternal Motiv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hieve tasks or resul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corrective actions when tasks or results are not achiev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162"/>
              </a:spcBef>
              <a:buClr>
                <a:srgbClr val="0033c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rnal Motiv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hieve tasks or resul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corrective actions when tasks or results are not achiev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ork to correct systemic probl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oundaryManagement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E776-1A22-4D4E-8715-B20130939F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9-15T13:39:58Z</dcterms:created>
  <dc:creator>Lynn A. Walker, Ph.D.</dc:creator>
  <dc:description/>
  <dc:language>en-US</dc:language>
  <cp:lastModifiedBy>Lynn A. Walker, Ph.D.</cp:lastModifiedBy>
  <cp:lastPrinted>1999-04-18T17:18:49Z</cp:lastPrinted>
  <dcterms:modified xsi:type="dcterms:W3CDTF">2003-12-04T16:14:43Z</dcterms:modified>
  <cp:revision>130</cp:revision>
  <dc:subject/>
  <dc:title>Policy Based  Leadership for Texas District</dc:title>
</cp:coreProperties>
</file>